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847-5FCE-4674-9732-11DCEAE7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E05-BEB1-4DF2-A45A-236093AB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DFF-CF74-4668-BA65-56D2D0B9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EA3-456E-4AC9-A9C4-8095734F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AA2-2612-4A9C-BC22-B230A3B2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533-D3AD-476C-9CAC-A111E711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BA1-3531-4C08-8A6A-B0700340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650-357E-423B-B081-424D8F0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61F-C31C-42AB-BE20-0263F96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573-FE53-4E88-8C30-6753D3D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0B3-C91C-4148-AFAD-C6EE546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B8B-E990-4706-B83B-5F99B48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D8A-42D8-43C8-ACA9-38C8A02B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4:20:12Z</dcterms:created>
  <dc:creator>David Goebelbecker</dc:creator>
  <dc:description/>
  <dc:language>en-US</dc:language>
  <cp:lastModifiedBy>David Goebelbecker</cp:lastModifiedBy>
  <cp:lastPrinted>2009-03-18T12:51:54Z</cp:lastPrinted>
  <dcterms:modified xsi:type="dcterms:W3CDTF">2009-03-18T12:52:39Z</dcterms:modified>
  <cp:revision>5</cp:revision>
  <dc:subject/>
  <dc:title>PowerPoint Presentation</dc:title>
</cp:coreProperties>
</file>