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4365-F275-4808-B9F1-AF224C1E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9AD1-B955-4B0F-B5B5-2440E34B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BC41-F67E-4B64-95C3-919B29329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FCBF-7A9D-4DB6-8725-185CB30FC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7583-CA0A-421F-B1EB-FFD3464A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AC6F-9F6C-45A1-8A01-2C279E0C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A18F-A815-4C7C-B37D-CCE33910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F485-0177-4F34-99B4-1D4C9A4A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F429-8F83-478F-94FC-2E97A0B6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507A-C892-47CA-ADF7-FCB34670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A8EB-9740-449F-BB7A-DFE71801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3C1A-5551-49B4-8690-BBD73B00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39CF-EB33-46DC-8D0C-182629757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637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21:02:53Z</dcterms:created>
  <dc:creator>David Goebelbecker</dc:creator>
  <dc:description>Copyright © Kidco Labs. All rights reserved.</dc:description>
  <dc:language>en-US</dc:language>
  <cp:lastModifiedBy>David Goebelbecker</cp:lastModifiedBy>
  <cp:lastPrinted>2009-03-19T21:39:27Z</cp:lastPrinted>
  <dcterms:modified xsi:type="dcterms:W3CDTF">2009-03-19T21:41:52Z</dcterms:modified>
  <cp:revision>6</cp:revision>
  <dc:subject>Wild Animal Adventures - Week 1 Memory Verse</dc:subject>
  <dc:title>PowerPoint Presentation</dc:title>
</cp:coreProperties>
</file>